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B7B-706A-41C0-AA11-904043D6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AD3-36D7-4D27-978E-9FFB52EC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11F-30A3-4232-A30E-A74833E7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E56-C98C-4EBC-9CDB-48A17904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E5E9-4553-4570-90DD-160596B3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61E0-BC45-46B2-B1FF-C0025A5E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075E-0BA1-43F7-8312-D675D2F2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7458-AAC4-4C7A-9D35-B9CD6744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FDB9-35E1-49DE-8E49-DE34DCD0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6A7F-05EC-4391-BBDC-D7C768F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1D7F-38FA-4347-87EE-DEADCE2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CC7-456D-4291-88BC-3605398A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F8E5-1403-4B18-B21D-FD5C92E6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B95A-73CF-423E-8D9E-92562273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27AD-175E-4A59-9FB1-3652E6AF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2A3C-EE1D-4A35-A967-041C5963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5833-B038-48B4-B016-A8F4BE78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052-A6C2-4942-BD95-DAA04FFE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586-2971-4C8B-84CD-BA74A08C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A2C-A49B-4FC0-B30B-0BCAF764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041-C513-452E-ADA6-2B2F3F5D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6F6-C47F-4080-A9D2-2FBF5CE1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92B-4DCA-4E35-BAB3-1A2F6C21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F02-D049-4609-998D-F5F14B8E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91FE-32BA-439C-8B5A-08A52EB9D0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8589-E069-4A96-A12A-C3D47D4CB7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gamma.rug.nl/iechome.html" TargetMode="External"/><Relationship Id="rId2" Type="http://schemas.openxmlformats.org/officeDocument/2006/relationships/hyperlink" Target="http://www.spss.com/software/science/bmdp" TargetMode="External"/><Relationship Id="rId3" Type="http://schemas.openxmlformats.org/officeDocument/2006/relationships/hyperlink" Target="http://www.ioe.ac.uk/multilevel" TargetMode="External"/><Relationship Id="rId4" Type="http://schemas.openxmlformats.org/officeDocument/2006/relationships/hyperlink" Target="http://www.sas.com/" TargetMode="External"/><Relationship Id="rId5" Type="http://schemas.openxmlformats.org/officeDocument/2006/relationships/hyperlink" Target="http://www.uic.edu/~hedeker/mixdos.html" TargetMode="External"/><Relationship Id="rId6" Type="http://schemas.openxmlformats.org/officeDocument/2006/relationships/hyperlink" Target="http://www.uic.edu/~hedeker/mixdos.html" TargetMode="External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tp://ftp.lisrel.com/hlm/windows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0132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HLM6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软件操作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人民大学统计学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陈堰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848720" cy="49816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65760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10080" cy="48942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3657600" y="6094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41044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76320" y="595440"/>
            <a:ext cx="899136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562720" cy="51116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276720" y="609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定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790960" cy="53229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276720" y="380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定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D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D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查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D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统计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3047760" cy="17193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2209680" cy="8794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3352680" y="5257800"/>
            <a:ext cx="22860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48720" cy="49100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2743200" y="533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D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描述统计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70106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HLM6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的五个模块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8006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67280" cy="5129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3200400" y="533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结果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39463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733920" y="6858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条件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609480" y="16002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ld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黑体：按总平均数对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ld itali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黑斜体：按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均数（组平均数）对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9507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3733920" y="6094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中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5105520" cy="41986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3886200" y="2895480"/>
            <a:ext cx="5029200" cy="36324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5486400" y="1523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加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释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level-2 model, both the intercept and SES slope are to be modeled as dependent on the school's mean social class (MEANSES) and school sector (SECTO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7913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172200" cy="4479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2971800" y="623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加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解释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400800" cy="335916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2209680" y="3124080"/>
            <a:ext cx="647712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620120" cy="167472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3733920" y="8380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混合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6705720" cy="27367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228600" y="2473200"/>
            <a:ext cx="5867280" cy="43848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5562720" y="3733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level sub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15000" cy="29988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782040" cy="30891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1600200" y="2286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定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数为随机的或非随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The HLM program encompasses 5 modules that may be used to fit different types of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LM2 module is used to fit two-level linear and non-linear (HGLM) models. It offers the widest array of special features, output, and hypothesis testing op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LM3 module is used to fit three-level linear and non-linear (HGLM) models. The range of features are similar to that of HL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6934320" cy="59306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1905120" y="2286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果分析（与课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657600" y="243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28600" y="898560"/>
            <a:ext cx="86104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45849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3124080" y="380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残差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229600" cy="43056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2895480" y="380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残差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609120" y="1520640"/>
            <a:ext cx="8153640" cy="48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手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36~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描述统计和统计图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残差的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残差的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09880" y="457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残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生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D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件时逐条删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分析时逐条删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alysis of multiply-imputed dat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ction 9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型，因假设是完全的，如果有缺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mpute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删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described  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Section 9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43200" y="457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实数据的处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46~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572000" cy="27874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3809880" y="457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124080" y="533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收敛的控制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4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380880" y="1446120"/>
            <a:ext cx="830592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76320" y="1109520"/>
            <a:ext cx="8915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6466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2438280" y="2286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stimation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MLM module allows estimation of multivariate normal models from incomplete data. Within the framework of HMLM, it is possible to estimate models h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unrestricted covariance structure, that is a full covariance matrix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model with homogenous level-1 variance and random intercepts and/or slopes at level-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model with heterogeneous variances at level 1 (a different variance for each occasion) and random intercepts and/or slopes at level 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model that includes a log-linear structure for the level-1 variance and random intercepts and/or slopes at level 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model with first-order auto-regressive level-1 random errors and random intercepts and/or slopes at level 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9810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o put constraints on fixed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913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2590920" cy="468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609480" y="1600200"/>
            <a:ext cx="23623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42900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异方差建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82240" cy="151920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5638680" cy="237168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4114800" y="3111480"/>
            <a:ext cx="44197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581280" y="304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设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124760" cy="1162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30592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304920" y="477720"/>
            <a:ext cx="845820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dels without a level-1 inter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efficients having a random effect with no corresponding fixed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9001080" cy="11570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152280" y="5727600"/>
            <a:ext cx="8839440" cy="74952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228600" y="5075280"/>
            <a:ext cx="594360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二、三层模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38080" y="16002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是课本第八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2209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 input requires a level-1 file (in our illustration a time-series data file), a level-2 file (child-level file), and a level-3 (school level)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055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LM2 allows for study of multivariate outcomes for persons who are, in turn, nested within higher-level units and offers similar modeling features as HM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CM2 module is used for two-level cross-classified random effects models, where lower-level units are cross-classified by two higher-level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98440" y="-766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三、分层广义线性模型（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HGLM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85800" y="1015920"/>
            <a:ext cx="70866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例数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amples\Chapter6\THAIU1.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其它软件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ARCL 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gamma.rug.nl/iechom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MDP5-V 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www.spss.com/software/science/bm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Ln 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http://www.ioe.ac.uk/multi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OC MIXED 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http://www.sa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XO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XREG 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www.uic.edu/~hedeker/mixdo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895480" y="29718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301680"/>
            <a:ext cx="822960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原始数据的格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Y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版的限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两层模型，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观测，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观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三层模型，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多只能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5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观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层不能超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效应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ffect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效应的总数不能超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载地址：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ftp://ftp.lisrel.com/hlm/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主要内容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层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层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层广义线性模型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GL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层多元线性模型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ML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LM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作图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2362680" y="0"/>
            <a:ext cx="854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一、两层模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格式的数据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量必须是字符型，对于其它格式，可以是字符或数值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层一数据必须以层二单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组，并在导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L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前排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数值型，范围必须在         到          之间。如果是浮点数，则小数部分被忽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符型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能超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定层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必须一样宽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81280" y="7621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量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990360" cy="3412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7696080" y="3733920"/>
            <a:ext cx="99072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153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ierarchical Linear Model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四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657600" y="457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例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lmF</cp:lastModifiedBy>
  <dcterms:modified xsi:type="dcterms:W3CDTF">2009-09-01T02:12:3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